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5A7-EBCB-4C83-98EE-ECD00FA6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BAE-E0DA-40E5-9EF5-C86FF4E9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A7D-87C9-4529-B93F-5224D79E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A0C-3435-4AEB-B025-D6783C46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204F-2B48-4637-969B-2AF68E82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8339-BF9A-4787-A0DB-1B328140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64BF-3257-4E76-9C62-95B21A04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8131-5C0B-433B-B217-629E4A69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2C35-20C3-4164-A323-AB1C6F53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E624-1812-4581-8AE2-2B5151AF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9C05-D3EB-4C89-84FB-DB5902DC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C277-CDDE-4A6D-80E5-319AABEF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C2C8-1400-4A22-99E6-D6C55638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BFBE-62C3-48CF-98FB-095DCD83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43D5-C497-448D-B128-18C9A2B3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038A-E697-441A-A1AA-B6708AC5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6ECE-268B-4EE1-B9D9-0E40CFE1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54B-F20C-4793-83B5-8ABE8987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2AD-F8D9-46FB-8021-D3F24B77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C2B-CB43-4488-8F74-C388C676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C6E-1546-4187-9498-7AF830F2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4C7-E323-44C5-8156-0E965CF6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676-557A-45D9-8E77-46B82AF4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0C9-2663-477F-A32D-40D9CA9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C892-BBD5-472B-BDC7-DF08115063E9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BE5C-3542-46B9-97CE-B618DA2DCE8C}" type="slidenum">
              <a:rPr b="1" lang="it-IT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83720" y="510840"/>
            <a:ext cx="67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U N I V E R S I T À     D E G L I      S T U D I   D I   C A T A N I 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F   A   C   O   L   T   À        D   I        I   N   G   E   G  N   E   R   I   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Times New Roman"/>
              </a:rPr>
              <a:t>Corso   di       Ingegneria Costier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9120" y="3091320"/>
            <a:ext cx="707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Introduzione all’ uso di un programma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di calcolo interattivo: MATLAB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Times New Roman"/>
              </a:rPr>
              <a:t>Esercitazione 1-bi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7240" y="476280"/>
            <a:ext cx="88596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066C-1735-4AE5-A217-14356EF524FD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MATLAB: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perazioni elemento per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        elemen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8029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r eseguire operazioni tra matrici elemento per elemento bisogna aggiungere un punto davanti all'operatore. Gli operatori elemento per elemento sono 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.*  ./  .^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C = A .* B    prodotto elemento per elemento, C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C = A ./ B    divisione elemento per elemento, C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/ B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C = A .^ 3    elevamento a potenza, C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</a:t>
            </a:r>
            <a:r>
              <a:rPr b="0" lang="it-IT" sz="16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i osservi che nei primi due casi le matrici A e B devono avere le stesse dimensioni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603D-8FA5-49F7-B78A-BB26CFE589BD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MATLAB: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manipolazione di vettori e matric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196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400" spc="-1" strike="noStrike" u="sng">
                <a:solidFill>
                  <a:srgbClr val="003366"/>
                </a:solidFill>
                <a:uFillTx/>
                <a:latin typeface="Arial"/>
              </a:rPr>
              <a:t>Vettori di punti equispaziati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:         x = [inizio : passo : fine]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definisce un vettore riga di punti equispaziati da passo tra inizio e fin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CMBX12~2a"/>
              </a:rPr>
              <a:t> </a:t>
            </a:r>
            <a:r>
              <a:rPr b="0" lang="it-IT" sz="1400" spc="-1" strike="noStrike" u="sng">
                <a:solidFill>
                  <a:srgbClr val="003366"/>
                </a:solidFill>
                <a:uFillTx/>
                <a:latin typeface="CMBX12~2a"/>
              </a:rPr>
              <a:t>Estrazione di sotto-matrici</a:t>
            </a:r>
            <a:r>
              <a:rPr b="0" lang="it-IT" sz="1400" spc="-1" strike="noStrike">
                <a:solidFill>
                  <a:srgbClr val="003366"/>
                </a:solidFill>
                <a:latin typeface="CMBX12~2a"/>
              </a:rPr>
              <a:t>:    sia A (m x n) ,  ovvero matrice n-righe,m-colonn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gt;&gt; A(2,3)      estrae l'elemento A2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gt;&gt; A(:,3)       estrae la colonna [A13; . . . ;Am3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gt;&gt; A(1:4,3)   estrae la sotto-colonna [A13; . . . ;A43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gt;&gt; A(1,:)       estrae la riga [A11 , . . . ,A1n]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>
              <a:lnSpc>
                <a:spcPct val="10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3366"/>
                </a:solidFill>
                <a:uFillTx/>
                <a:latin typeface="CMBX12~2a"/>
              </a:rPr>
              <a:t> </a:t>
            </a:r>
            <a:r>
              <a:rPr b="0" lang="it-IT" sz="1400" spc="-1" strike="noStrike" u="sng">
                <a:solidFill>
                  <a:srgbClr val="003366"/>
                </a:solidFill>
                <a:uFillTx/>
                <a:latin typeface="CMBX12~2a"/>
              </a:rPr>
              <a:t>Funzioni matricial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gt;&gt; C = A‘;         trasposta di A, Cij = Aj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gt;&gt; C = inv(A);   inversa di A (matrici quadrate), C = A</a:t>
            </a:r>
            <a:r>
              <a:rPr b="0" lang="it-IT" sz="1400" spc="-1" strike="noStrike" baseline="30000">
                <a:solidFill>
                  <a:srgbClr val="003366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gt;&gt; d = det(A);   determinante di A (matrici quadra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&gt;&gt; max (A);  min(A);    estrae un vettore riga contenente il massimo (risp. minimo) elemento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                                     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di ciascuna colonn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Le funzioni matematiche elementari come il valore assoluto, abs l'esponenziale, exp, le funzioni trigonometriche sin, cos, e quelle iperboliche si applicano indistintamente a variabili scalari, vettori e matrici ed agiscono elemento per elemento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389C-F280-404D-ACBB-97F45E653A16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grafica 2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813744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Matlab offre varie possibilità per fare un grafico in 2D, il principale è il coman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lot(x,y);        in cui x e y sono due vettori di pari dimensio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5D08-EE16-4652-9469-EECC63884A77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1597" r="0" b="0"/>
          <a:stretch/>
        </p:blipFill>
        <p:spPr>
          <a:xfrm>
            <a:off x="108000" y="3105000"/>
            <a:ext cx="6011640" cy="1506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156360" y="2997360"/>
            <a:ext cx="298764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E’ possibile personalizzare il grafico mediante la scelta del colore della linea, del simbolo da mettere in corrispondenza dei punti (x</a:t>
            </a:r>
            <a:r>
              <a:rPr b="0" lang="it-IT" sz="1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; y</a:t>
            </a:r>
            <a:r>
              <a:rPr b="0" lang="it-IT" sz="1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) e del tipo di linea (continua, punteggiata, tratteggiata, ...). Es: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&gt;&gt; plot (x,y,'--r+'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9280" y="5013360"/>
            <a:ext cx="6589800" cy="1720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50920" y="468936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Commentare un grafico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5553000"/>
            <a:ext cx="3241800" cy="1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0360" y="5157720"/>
            <a:ext cx="23036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Esempio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xlabel(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'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t [s]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'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il testo si inserisce tra apici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grafica 2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8137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19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Ogni qual volta si digita il comando plot, Matlab cancella il grafico precedente e traccia quello nuovo. Per disegnare più grafici nella stessa finestra grafica si può digitare il coman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hold 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rima di disegnare il grafico che si vuole sovrapporre a quello già traccia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r disegnare grafici diversi in una stessa finestra grafica ma in sottofinestre separate si utilizza il comando subplot secondo la sintassi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subplot(righe,colonne,sottofinestr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ove righe e colonne indicano il numero di righe e di colonne rispettivamente della matrice di sottofinestre della finestra grafica principale, e sottofinestra indica il numero della sottofinestra che si desidera attivar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i possono mantenere aperte più finestre grafiche: per attivare la finestra grafica numero n si utilizza il comand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figure(n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r chiudere la suddetta finestra si digita il comando close(n), per chiudere tutte le finestre attive si digita close all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61E2-1F81-4313-BFC4-9839D9A6FB00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programm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5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2196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Un file contenente istruzioni Matlab viene generalmente chiamato m-file poiché ha estensione “.m”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I comandi vanno digitati su righe differenti oppure sulla stessa riga purch´e siano separati da un punto e virgola o da una virgola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Per introdurre un commento all’interno dell’m-file si deve utilizzare il carattere %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Gli m-file possono essere di due tipi: script oppure function: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830160" indent="-2854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gli script sono definiti semplicemente da una sequenza di comandi, essi </a:t>
            </a:r>
            <a:r>
              <a:rPr b="0" lang="it-IT" sz="1400" spc="-1" strike="noStrike" u="sng">
                <a:solidFill>
                  <a:srgbClr val="003366"/>
                </a:solidFill>
                <a:uFillTx/>
                <a:latin typeface="Arial"/>
              </a:rPr>
              <a:t>non prevedono un passaggio di parametri di input ed output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. Inoltre, le </a:t>
            </a:r>
            <a:r>
              <a:rPr b="0" lang="it-IT" sz="1400" spc="-1" strike="noStrike" u="sng">
                <a:solidFill>
                  <a:srgbClr val="003366"/>
                </a:solidFill>
                <a:uFillTx/>
                <a:latin typeface="Arial"/>
              </a:rPr>
              <a:t>variabili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definite in uno script sono variabili che </a:t>
            </a:r>
            <a:r>
              <a:rPr b="0" lang="it-IT" sz="1400" spc="-1" strike="noStrike" u="sng">
                <a:solidFill>
                  <a:srgbClr val="003366"/>
                </a:solidFill>
                <a:uFillTx/>
                <a:latin typeface="Arial"/>
              </a:rPr>
              <a:t>rimangono nella memoria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della sessione di lavoro, come se fossero state definite direttamente al prompt. </a:t>
            </a:r>
            <a:r>
              <a:rPr b="0" lang="it-IT" sz="1400" spc="-1" strike="noStrike" u="sng">
                <a:solidFill>
                  <a:srgbClr val="003366"/>
                </a:solidFill>
                <a:uFillTx/>
                <a:latin typeface="Arial"/>
              </a:rPr>
              <a:t>Per eseguire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un m-file di tipo script occorre selezionare la directory in cui l’m-file è stato salvato e, quindi, </a:t>
            </a:r>
            <a:r>
              <a:rPr b="0" lang="it-IT" sz="1400" spc="-1" strike="noStrike" u="sng">
                <a:solidFill>
                  <a:srgbClr val="003366"/>
                </a:solidFill>
                <a:uFillTx/>
                <a:latin typeface="Arial"/>
              </a:rPr>
              <a:t>digitare il nome dell’m-file (senza estensione)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830160" indent="-28548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gli m-file di tipo function devono cominciare necessariamente con la seguente struttura:  function [y_1,y_2,...,y_n]=nome_function(x_1,x_2,...,x_m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83016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in cui y_1,y_2,...,y_n sono i parametri di output e x_1,x_2,...,x_m sono quelli di output; nome_function deve coincidere con il nome dell’ m-fi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A272-9D0B-4295-9F93-9FAF72E4CC30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ciclo for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69464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Un ciclo for è una serie di istruzioni del tip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for k=1:10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operazioni…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Il principio è semplice: dapprima alla variabile k viene dato il valore 1, poi vengono eseguite le istruzioni, quindi a k viene dato il valore 2, e le operazioni vengono di nuovo eseguite, così via fino ad arrivare a 100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Esempio di funzione che calcola n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fatt=1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for k=1: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fatt=fatt*k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2C87-B7EA-4854-AC72-B05355BA2B04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condi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8120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x&gt;a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x maggiore di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x&lt;a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x minore di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x&gt;=a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x maggiore o uguale ad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x&lt;=a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x minore o uguale ad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x==a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x uguale ad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x~=a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x diverso da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’espressione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if (x)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ntrolla se x è diverso da zer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&amp; and logico: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(x&gt;10)&amp;(y&gt;100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| or logico :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(x&gt;10)|(y&gt;100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~ negazione: ~(x==a) corrisponde a (x~=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F95B-E9D6-4085-B165-0ED853827EB9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struttura if….el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8120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if (</a:t>
            </a: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condizione1</a:t>
            </a: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3366"/>
                </a:solidFill>
                <a:latin typeface="Arial"/>
              </a:rPr>
              <a:t>istruzione 1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elseif (</a:t>
            </a: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condizione2</a:t>
            </a: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istruzione 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3366"/>
                </a:solidFill>
                <a:latin typeface="Arial"/>
              </a:rPr>
              <a:t>istruzione 3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In questo schema dapprima viene verificata la condizione 1: in caso affermativo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l’istruzione 1 viene eseguita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Se la condizione 1 non e’ verificata, si passa al controllo della condizione 2: s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questa è verificata si esegue l’istruzione 2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Se nessuna delle due condizioni e’ verificata, e solo in questo caso, si esegu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l’istruzione 3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Esempio: per evitare di calcolare i logaritmi di zero, o di un numero negativ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if (x&gt;0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lx=log(x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lx=Na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%NaN= not a number…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39D6-6071-47E8-802D-A1FECE439A0F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ciclo whi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81200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Se si vuole eseguire un'istruzione fintanto che una certa espressione logica è vera, si utilizz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l'istruzione whi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while (</a:t>
            </a:r>
            <a:r>
              <a:rPr b="0" i="1" lang="it-IT" sz="1400" spc="-1" strike="noStrike">
                <a:solidFill>
                  <a:srgbClr val="003366"/>
                </a:solidFill>
                <a:latin typeface="Arial"/>
              </a:rPr>
              <a:t>condizione</a:t>
            </a: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operazioni…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3366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Ad esempio, lo stesso calcolo eseguito precedentemente con un ciclo for ( funzione che calcola n!) può essere eseguito in modo analogo con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fatt=1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k = 0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while (k &lt; n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k = k + 1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fatt=fatt*k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B205-AEFF-4DC3-9C4E-E70FA71D6A4A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Perché calcolo interattiv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49360"/>
            <a:ext cx="808992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Nei programmi di calcolo interattivo le </a:t>
            </a:r>
            <a:r>
              <a:rPr b="0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operazioni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da eseguire possono venire immes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irettamente </a:t>
            </a:r>
            <a:r>
              <a:rPr b="0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da tastiera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ed </a:t>
            </a:r>
            <a:r>
              <a:rPr b="0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eseguite istantaneamente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Rispetto ai programmi prodotti con linguaggio compilato (come C, C++, fortran, etc) s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ha il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vantaggio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di poter rapidamente </a:t>
            </a:r>
            <a:r>
              <a:rPr b="0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capire quali sono le operazioni da effettuare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su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ati, e poter </a:t>
            </a:r>
            <a:r>
              <a:rPr b="0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visualizzare immediatamente il risultato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, evitando di dover compilare 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eseguire ogni volta il programma da capo: questo porta a velocizzare le fasi di scrittur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ei programmi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Gli </a:t>
            </a: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svantaggi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risiedono nel fatto che i programmi prodotti risultano </a:t>
            </a:r>
            <a:r>
              <a:rPr b="0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piu’ lenti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di quell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critti con linguaggio compilato di basso livello, e nel fatto che solitamente </a:t>
            </a:r>
            <a:r>
              <a:rPr b="1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non e’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possibile produrre programmi in grado di funzionare al di fuori del programma d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calcolo col quale sono stati prodotti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i solito questi strumenti, e relativi linguaggi, vengono utilizzati nella fase d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rototipizzazione di un programma, o nella fase finale di </a:t>
            </a:r>
            <a:r>
              <a:rPr b="0" lang="it-IT" sz="1600" spc="-1" strike="noStrike" u="sng">
                <a:solidFill>
                  <a:srgbClr val="003366"/>
                </a:solidFill>
                <a:uFillTx/>
                <a:latin typeface="Arial"/>
              </a:rPr>
              <a:t>visualizzazione dei risultati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mentre per le operazioni di calcolo su grosse quantità di dati rima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empre preferibile l’uso di un programma compilat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A0C2-B7C8-4C1E-8C48-AE2569E7677E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Programmi di calcolo interat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2361960"/>
            <a:ext cx="774072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grammi intesi primariamente per il calcolo simbol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Mathematica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Windows, Mac, Linu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Maple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Windows, Mac, Linu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grammi intesi primariamente per il calcolo numerico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Matlab - commerciale - Windows, Mac, Linu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Octave - gratuito -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Linux, (windows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Scilab - gratuito -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Linux, Window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root - gratuito -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Linux, Mac, Window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aw - gratuito - </a:t>
            </a:r>
            <a:r>
              <a:rPr b="0" i="1" lang="it-IT" sz="2000" spc="-1" strike="noStrike">
                <a:solidFill>
                  <a:srgbClr val="003366"/>
                </a:solidFill>
                <a:latin typeface="Arial"/>
              </a:rPr>
              <a:t>Linu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 Linux si trovano molte altre possibilita’, come grace, R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etc..., etc…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E3E7-624A-4E32-9F68-9EE3A0B29B1C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introduzion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768760"/>
            <a:ext cx="760104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Il nome MATLAB è acronimo di MATrix LABorator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Originariamente MATLAB è stato sviluppato come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ambiente interattivo per il calcolo matriciale ad alt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livello. La principale caratteristica è che non opera con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numeri , ma con matrici: </a:t>
            </a:r>
            <a:r>
              <a:rPr b="0" lang="it-IT" sz="2200" spc="-1" strike="noStrike" u="sng">
                <a:solidFill>
                  <a:srgbClr val="003366"/>
                </a:solidFill>
                <a:uFillTx/>
                <a:latin typeface="Arial"/>
              </a:rPr>
              <a:t>i vettori e i numeri son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 u="sng">
                <a:solidFill>
                  <a:srgbClr val="003366"/>
                </a:solidFill>
                <a:uFillTx/>
                <a:latin typeface="Arial"/>
              </a:rPr>
              <a:t>considerati casi particolari di matrici</a:t>
            </a: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Attualmente MATLAB è utilizzato anche come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0440" indent="-2509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Calcolatrice scientifica evoluta;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0440" indent="-2509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Ambiente grafico;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0440" indent="-250920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Linguaggio di programmazione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9C8F-4F9A-414B-A9AC-4C0F39B2FD8F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8C8A-9CA0-433A-9690-6A0911C28C12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10260000" cy="6415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345840" y="34560"/>
            <a:ext cx="7383960" cy="4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66"/>
                </a:solidFill>
                <a:latin typeface="Arial"/>
              </a:rPr>
              <a:t>MATLAB: Schermata tip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help in line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2349360"/>
            <a:ext cx="756108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Matlab offre un help in linea molto completo. Compor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help comand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r avere una spiegazione sul modo di utilizzo di un comando Matla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lookfor argomen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r avere una lista di comandi Matlab inerenti un certo argomen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helpw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r aprire un help interattivo dei comandi matlab disponibili, classicati per argomenti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941B-8EC3-4B63-9E75-A6CE781B4401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dichiarazione di variabi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94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La dichiarazione di variabili in Matlab segue le seguenti regol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tutte le variabili sono matric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non si dichiara il tipo di variabil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a=5                 variabile scalare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(1x1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b=[4 6]            vettore riga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(1x2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c=[-5; 2]          vettore colonna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(2x1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d=[2 3; -1 7]    matrice quadrata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(2x2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Negli esempi precedenti abbiamo utilizzato gli operatori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eparatore di linea: punto e virgola (;) o Ent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2196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eparatore di colonna: virgola (,) o spazio bianc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Matlab stampa il risultato dell'operazione, a meno che il comando non sia seguito da un punto e virgol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820E-CF0B-49D4-A21A-0E8FF167EE73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orksp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94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r avere informazioni sulle variabili che sono state inizializzate si possono utilizzare i comandi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who           per visualizzare tutte le variabili definite dall'utent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whos         per visualizzare tutte le variabili con indicazione della loro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imension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size(a)      per accedere alle dimensioni della matrice 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clear var   per cancelare la variabile var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clear (o &gt;&gt; clear all)     per cancellare tutte le variabili definit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clc            per cancellare il contenuto della finestra di lavoro (ma non il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workspac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4181-3D40-414F-A05F-51B7CF60B624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MATLAB: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operazioni matricia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94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Le operazioni matriciali sono definite da +, -, *, /, ^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C = A + B     somma tra matrici, C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= A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+ B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C = A * B      prodotto tra matrici, C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j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lang="it-IT" sz="16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k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A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ik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kj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C = A / B      divisione tra matrici, C = AB</a:t>
            </a:r>
            <a:r>
              <a:rPr b="0" lang="it-IT" sz="1600" spc="-1" strike="noStrike" baseline="30000">
                <a:solidFill>
                  <a:srgbClr val="0033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&gt;&gt; C = A^3        elevamento a potenza di una matrice (C = A*A*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93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i osservi che queste operazione sono ben definite soltanto se le matrici hanno dimensioni compatibili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609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286A-BCA9-40E9-BF58-DEB1DF13F636}" type="slidenum">
              <a:rPr b="0" lang="it-IT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</cp:lastModifiedBy>
  <dcterms:modified xsi:type="dcterms:W3CDTF">2010-03-24T12:09:27Z</dcterms:modified>
  <cp:revision>150</cp:revision>
  <dc:subject/>
  <dc:title>PowerPoint Presentation</dc:title>
</cp:coreProperties>
</file>